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942D-8E28-424A-93DF-D3AF76C59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6ACF-7F77-4470-B5E2-842175C64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635B-D6C6-4408-897C-01063678A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396F-BEBD-4A47-9540-47692A345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0066-4E81-49C6-AF7C-71E887007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6F10-CBF7-4672-9195-7BB61A319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C536-DCA2-4377-98DC-C56BE9277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2EE2-468E-46E7-9292-3A8F5DABB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ABC3-F02C-44AA-8C8E-A2D515C9C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1456-A25A-441D-ABEE-AF8E3C796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0E0B-066D-43FF-808F-9C75FFC8A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50C1-AA75-4701-9B0A-41790398E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84FB9-FFDD-4C33-9C3D-722AB7A1C5D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pk-altonika.ru/dictionary_1.ht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2" descr="P_cov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6"/>
          <p:cNvSpPr/>
          <p:nvPr/>
        </p:nvSpPr>
        <p:spPr>
          <a:xfrm>
            <a:off x="4952880" y="4648320"/>
            <a:ext cx="3124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b2b2b2"/>
                </a:solidFill>
                <a:latin typeface="Arial"/>
              </a:rPr>
              <a:t>Современное контрактное производство электроник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b2b2b2"/>
                </a:solidFill>
                <a:latin typeface="Arial"/>
              </a:rPr>
              <a:t>Европейского уровн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4952880" y="213372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ИЗВОДСТВЕННАЯ КОМП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3" descr="P_zakazchik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762120" y="136440"/>
            <a:ext cx="60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ши заказчи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762120" y="914400"/>
            <a:ext cx="82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3300"/>
                </a:solidFill>
                <a:latin typeface="Arial"/>
              </a:rPr>
              <a:t>Нашими заказчиками являются более 200 компаний из России и из-за рубеж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1676520" y="1219320"/>
            <a:ext cx="7086600" cy="19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Телекоммуникации: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Cisco Systems, Zyxel Communications, ГК Информтехника, Истар, ВЭЛС, Геостар Навигация, ЗАО С-Терра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pka, Dune HD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Электроприбор-1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x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Автомобильная электроника: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Альтоника-СБ, А.Р.Д., Астория Групп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С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Системы энергоучета: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ИАЦ НТИ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нтиниум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Матрица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айп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Промышленная электроника: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ГК ТЕКОН, Промэлектроника, НПО РусБИТех, Инпросистем, ВНИИНС, Позитрон, РТЛ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Медицинская техника: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Альтомедика, Техномедика, Дистанционная Медицина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Системы безопасности и криптозащиты: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Альтоника-С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766080" y="6553080"/>
            <a:ext cx="239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изводственная комп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7" descr="P_contak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6"/>
          <p:cNvSpPr/>
          <p:nvPr/>
        </p:nvSpPr>
        <p:spPr>
          <a:xfrm>
            <a:off x="745920" y="16344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такт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542520" y="942840"/>
            <a:ext cx="3506040" cy="21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3300"/>
                </a:solidFill>
                <a:latin typeface="Arial"/>
              </a:rPr>
              <a:t>Производство в Зеленограде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. Москва,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еленоградский Административный округ,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сновая аллея, владение 6,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изводственный корпус 2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елефон: +7 (495) 787-22-60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акс: +7 (495) 787-22-6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ail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ems@altonika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5182560" y="942840"/>
            <a:ext cx="33109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3300"/>
                </a:solidFill>
                <a:latin typeface="Arial"/>
              </a:rPr>
              <a:t>Центральный офис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15230, Москва, Варшавское шоссе, д. 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елефон: +7 (495) 797-30-70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акс: +7 (495) 795-30-51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s@altonika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3" descr="P_co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7"/>
          <p:cNvSpPr/>
          <p:nvPr/>
        </p:nvSpPr>
        <p:spPr>
          <a:xfrm>
            <a:off x="740520" y="163440"/>
            <a:ext cx="427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щая информация о компан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1523880" y="1689120"/>
            <a:ext cx="7010640" cy="25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cc3300"/>
              </a:buClr>
              <a:buSzPct val="120000"/>
              <a:buFont typeface="CommonBulle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мпания основана в 1987 год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SzPct val="120000"/>
              <a:buFont typeface="CommonBulle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бственное электронно-сборочное производство мирового уровня в г. Зеленогра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SzPct val="120000"/>
              <a:buFont typeface="CommonBulle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олее 40 ключевых потребителей, более 150 видов серийно выпускаемой проду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SzPct val="120000"/>
              <a:buFont typeface="CommonBulle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пуск более 1 млн. изделий в год при номенклатуре более 150 видов серийных продук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SzPct val="120000"/>
              <a:buFont typeface="CommonBulle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щая численность сотрудников более 200 челов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SzPct val="120000"/>
              <a:buFont typeface="CommonBulle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мплексное сопровождение жизненного цикла изделий на Европейском уровне: от разработки и подготовки производства до массового производства, сервисного гарантийного и послегарантийного обслужи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SzPct val="120000"/>
              <a:buFont typeface="CommonBulle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ертификация ISO 9001 с 1996 г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SzPct val="120000"/>
              <a:buFont typeface="CommonBulle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794160" y="838080"/>
            <a:ext cx="5792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роизводственная компания Альтоника –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Российское контрактное производство электрон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Европейского уровн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4" descr="P_his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7"/>
          <p:cNvSpPr/>
          <p:nvPr/>
        </p:nvSpPr>
        <p:spPr>
          <a:xfrm>
            <a:off x="739800" y="163440"/>
            <a:ext cx="679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тория направления «Контрактное производство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746280" y="917640"/>
            <a:ext cx="785808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1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999</a:t>
            </a: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 г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– начало предоставления услуг по контрактному производству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2007 г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– переход деятельности по контрактному производству из непрофильной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   в одну из ключевых в бизнес-портфеле компан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20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1</a:t>
            </a: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3 г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– Открытие новой производственной площадки Altonika-EMS SIA в Евросоюзе (Латвия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20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1</a:t>
            </a: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5 г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– Начало освоения нового для компании рынка услуг контрактного производ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лектроники в Евросоюз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20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16</a:t>
            </a: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 г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– Массовый запуск производства электронных модулей-полуфабрикатов для бортовых устройств системы «Платон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Рисунок 2" descr=""/>
          <p:cNvPicPr/>
          <p:nvPr/>
        </p:nvPicPr>
        <p:blipFill>
          <a:blip r:embed="rId2"/>
          <a:stretch/>
        </p:blipFill>
        <p:spPr>
          <a:xfrm>
            <a:off x="615960" y="2584440"/>
            <a:ext cx="797400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5" descr="P_spet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750240" y="163440"/>
            <a:ext cx="34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раслевые компетен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971640" y="1701720"/>
            <a:ext cx="7488000" cy="20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cc3300"/>
              </a:buClr>
              <a:buSzPct val="120000"/>
              <a:buFont typeface="CommonBulle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втомобильная электрон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SzPct val="120000"/>
              <a:buFont typeface="CommonBulle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едицинская техн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SzPct val="120000"/>
              <a:buFont typeface="CommonBulle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истемы безопас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SzPct val="120000"/>
              <a:buFont typeface="CommonBulle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елекоммуник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SzPct val="120000"/>
              <a:buFont typeface="CommonBulle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редства радиосвяз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SzPct val="120000"/>
              <a:buFont typeface="CommonBulle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пецтехн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SzPct val="120000"/>
              <a:buFont typeface="CommonBulle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мышленная электроника (промышленная автоматизация, силовая электроника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орудование для нефтегазовой отрасли, РЖД, системы энергоучета, электроника дл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ЖКХ, светотехника и пр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784440" y="870120"/>
            <a:ext cx="7991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«ПК «Альтоника» производит более 150 серийных продуктов для разных областей промышлен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Универсальность технологических процессов, большая наработанная база компетенций инжене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и технологов позволяет выпускать изделия разного профиля - от массовой автомобильн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электроники и телекоммуникаций до штучного медицинского оборудов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20"/>
          <p:cNvSpPr/>
          <p:nvPr/>
        </p:nvSpPr>
        <p:spPr>
          <a:xfrm>
            <a:off x="766080" y="6553080"/>
            <a:ext cx="239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изводственная комп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4" descr="P_baz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762120" y="152280"/>
            <a:ext cx="769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трактное производство электрони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772560" y="849240"/>
            <a:ext cx="39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Контрактное производство «ПК Альтоника» - это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6019920" y="3886200"/>
            <a:ext cx="1143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Контрольная панел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7162920" y="3886200"/>
            <a:ext cx="1066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GSM-модуль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1187280" y="1149480"/>
            <a:ext cx="75758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cc3300"/>
              </a:buClr>
              <a:buSzPct val="120000"/>
              <a:buFont typeface="CommonBulle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мплексная подготовка изделия к серийному производств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SzPct val="120000"/>
              <a:buFont typeface="CommonBulle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купка комплектующих и материал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SzPct val="120000"/>
              <a:buFont typeface="CommonBulle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лный производственный цикл электронно-сборочного производства электроники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ходное тестирование, испытания, контрол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SzPct val="120000"/>
              <a:buFont typeface="CommonBulle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ервисный гарантийный, послегарантийный ремонт и 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766080" y="6553080"/>
            <a:ext cx="239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изводственная комп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762120" y="2422440"/>
            <a:ext cx="7770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Все услуги могут быть реализованы как комплексно, так и частично, в зависимости от производственной модели деятельности Заказчика. Для наших клиентов мы предлагаем следующие возможност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1187280" y="3092400"/>
            <a:ext cx="759168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cc3300"/>
              </a:buClr>
              <a:buSzPct val="120000"/>
              <a:buFont typeface="CommonBulle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вместная работа по снижению себестоимости производства проду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SzPct val="120000"/>
              <a:buFont typeface="CommonBulle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зервирование комплектующих и материалов с целью ускорения производственного цик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SzPct val="120000"/>
              <a:buFont typeface="CommonBulle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ланирование развития производства с целью соответствовать планам развит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треби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SzPct val="120000"/>
              <a:buFont typeface="CommonBulle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частие в расследовании причин отказов и проблем с продукцией в процессе эксплуат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762120" y="136440"/>
            <a:ext cx="64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упка комплектующих и материал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762120" y="914400"/>
            <a:ext cx="80010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ша компания использует систему класса MRP2 собственной разработки для управления закупк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истема позволяет работать с изделиями любой сложности, большой номенклатурой сборочных единиц и комплектующих. Все данные по остаткам комплектующих на складе, календарной потребности, срокам и условиям поставки рассчитываются и обрабатываются автоматически по более чем 10 000 наименованиям компонентов и материал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систему закупок  «ПК «Альтоника» входи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766080" y="6553080"/>
            <a:ext cx="239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изводственная комп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2"/>
          <p:cNvSpPr/>
          <p:nvPr/>
        </p:nvSpPr>
        <p:spPr>
          <a:xfrm>
            <a:off x="1569960" y="2133720"/>
            <a:ext cx="6934320" cy="16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cc3300"/>
              </a:buClr>
              <a:buSzPct val="120000"/>
              <a:buFont typeface="CommonBulle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бота напрямую с производителями комплектующих или их официальными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представителями в Росс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SzPct val="120000"/>
              <a:buFont typeface="CommonBulle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ттестация поставщиков, гарантирующая нам высокое качество комплектующих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и отсутствие контрафак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SzPct val="120000"/>
              <a:buFont typeface="CommonBulle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лаженная логистика по доставке и таможенной очистке комплектующих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 материалов из любой точки ми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SzPct val="120000"/>
              <a:buFont typeface="CommonBulle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2" descr="P_pov_mon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"/>
          <p:cNvSpPr/>
          <p:nvPr/>
        </p:nvSpPr>
        <p:spPr>
          <a:xfrm>
            <a:off x="762120" y="136440"/>
            <a:ext cx="64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верхностный монтаж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762120" y="907920"/>
            <a:ext cx="8001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вод «ПК Альтоника» оснащен четырьмя линиями поверхностного монтажа, различным по возможностям и производительности — от 36 000 до 136 000 компонентов в час - для решения любых производственных задач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766080" y="6553080"/>
            <a:ext cx="239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изводственная комп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1" descr="P_vyvod_mon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762120" y="136440"/>
            <a:ext cx="64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водной монтаж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762120" y="914400"/>
            <a:ext cx="8001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водной монтаж плат производится как ручным способом, так и с применением двух линий конвейерной системы селективной пайки Versaflow High Speed и ERSA VERSAFLOW 3/45. В основе их работы лежит процесс избирательной пайки отдельных компонентов печатной платы при отсутствии воздействия тепла и припоя на печатную плату в целом. Эта технология имеет ряд преимуществ перед пайкой волной, сохраняя при этом высокую производительность процес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 изготовлении нестандартных изделий, а также при выпуске небольших серий продукции монтаж выполняется вручну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766080" y="6553080"/>
            <a:ext cx="239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изводственная комп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0" descr="P_orb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3"/>
          <p:cNvSpPr/>
          <p:nvPr/>
        </p:nvSpPr>
        <p:spPr>
          <a:xfrm>
            <a:off x="762120" y="136440"/>
            <a:ext cx="64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троль качества монтажа: AOI, X-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762120" y="914400"/>
            <a:ext cx="8001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ред запуском партии изделий первые собранные платы проверяются визуально с использованием стереоскопов VisionLynx, а после качество монтажа дополнительно проверяется с помощью системы рентгеновского контроля Phoenix pcba|analyzer. Такой контроль печатных</a:t>
            </a:r>
            <a:r>
              <a:rPr b="0" lang="ru-RU" sz="1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лат необходим для предотвращения проблем с паяемостью электронных компонентов и надежностью паяных соединен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акже несколько сборочных линий поверхностного монтажа оснащены системами автоматической оптической инспекции Orbote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766080" y="6553080"/>
            <a:ext cx="239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изводственная комп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6T11:17:13Z</dcterms:created>
  <dc:creator>OZakharova</dc:creator>
  <dc:description/>
  <dc:language>en-US</dc:language>
  <cp:lastModifiedBy>noskov</cp:lastModifiedBy>
  <dcterms:modified xsi:type="dcterms:W3CDTF">2017-09-05T08:47:55Z</dcterms:modified>
  <cp:revision>226</cp:revision>
  <dc:subject/>
  <dc:title>Презентация PowerPoint</dc:title>
</cp:coreProperties>
</file>